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CA59-D781-4C87-B52B-6C89CACA4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D961-5397-45D7-BF95-FDB50094A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A694-865F-4101-9D94-F2D3AAD30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D27F-39BA-4AFF-B971-4C2A46BD8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3788-5FBE-4F9F-952E-62896C0EE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7990-30A9-4C99-BA5B-90518313F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4638-0520-4F55-AE9C-DE8100142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61FC-8476-494F-A1BC-9213FC550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1B3A-6CF5-41DB-935A-C04ECB79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5D19-6C0E-4CBB-A374-802F7C4F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0152-0153-40B5-B437-410615C2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8F73-AC1B-4546-9FE7-018B27D5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6D5F9-DA57-49D4-93B9-1717FEA8EA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- Unit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retell, draw, and solve story probl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recognize math as a part of daily lif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retell, draw, and solve story probl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create story probl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04560" y="228600"/>
            <a:ext cx="838188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- Unit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measure line units by counting centimeter length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break apart centimeter lengths into partner link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measure line segments by reading numbers on a rul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describe the properties of squares, rectangles and triang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28240" y="152280"/>
            <a:ext cx="84582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2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label geometric shap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define and find perimeters of squares and rectang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draw triang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find the perimeters of triang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draw angles of triang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04920" y="228600"/>
            <a:ext cx="853416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- Unit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represent and solve change plus and change minus story probl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create and represent change plus and change minus story problems from equations and  Math Mountai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and discuss  change plus and change minus story problems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52280" y="22860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3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tell the difference between “change” and “collection” proble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solve collection story proble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classify objec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retell with my own words and solve story problems that have  group nam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use comparison language the correct w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solve comparison story proble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2860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3 c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retell and solve comparison story probl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create comparison story probl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count on or make a ten to solve addition and subtraction probl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a variety of story probl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2688120" y="324468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28600" y="228600"/>
            <a:ext cx="86104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 - Unit 3 c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recognize when problems do not have enough or have extra inform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problems with not enough information by adding inform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fix and solve problems that have extra inform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28600" y="15228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3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story problems with hidden information by figuring out what that information 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story problems with not enough information by adding information to the probl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problems with extra information by crossing out the extra inform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3 c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problems with more than one solution ste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find totals using the doubles plus 1 or the doubles minus 1 strateg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understand that even numbers are those that make two equal group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create story probl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story probl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228600" y="152280"/>
            <a:ext cx="86104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3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challenging story probl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addition, mystery addition and subtraction (teen totals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a variety of problems using mathematical concepts and skil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use the mathematical processes in the context of problem solving, connections, reasoning and proof, communication and represent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28240" y="152280"/>
            <a:ext cx="84582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- Unit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describe the properties of squares, rectangles, and triang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explain how to find the perimeter of squares, rectangles, and triang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classify triang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draw and explain parallel lin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draw and define parallelogra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22860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1 c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addition or subtraction problems involving 0 or 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make rules for adding or subtracting 0 or 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explain how to solve story probl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how numbers in different way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how numbers 6 – 10 as 5 and some mo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28600" y="152280"/>
            <a:ext cx="868680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rade 2 – Unit 4 cont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describe the properties of quadrilaterals,  parallelograms, rectangles and squar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categorize quadrilatera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show relationships among quadrilatera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rade 2 - Unit 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represent numbers to 20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identify patterns among numbers in different place value posi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relate groups of 10 to decade numbers and 10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228600" y="152280"/>
            <a:ext cx="87631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rade 2 – Unit 5 co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represent ones, tens, and hundreds in different way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write 2 and 3 digit numbers through 20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compare totals of ones and te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represent 2 and 3 digit numb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write numbers up to 99 in word for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add a 1 digit number to a 2 digit numb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practice exchanging pennies for dim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28600" y="228600"/>
            <a:ext cx="87631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rade 2 – Unit 5 co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identify and compare 100-partners and10-partn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solve problems with tens and some o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add decade numbers over 10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6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add 1- and 2- digit numbers to 10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solve 10 based story problems with decade numb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identify sets as odd or ev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identify numbers as odd or ev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51920" y="152280"/>
            <a:ext cx="853452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5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estimate how many of an object is show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estimate how many of an object will fit in a given sp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invent a method of solving 2-digit addition probl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group ones to make a new ten; group tens to make a new 10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304920" y="152280"/>
            <a:ext cx="861048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5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apply addition concepts and strategies to a real-world situ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2-digit addition problems using the Show All Totals metho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tell the difference between tens and ones in 2-digit addi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2-digit addition exercises using the New Groups Below metho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tell the difference between tens and ones in 2-digit addi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228600" y="152280"/>
            <a:ext cx="87631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rade 2 – Unit 5 co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use a preferred method to solve 2-digit addition exercis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tell the difference between ones, tens, and hundreds in two digit proble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add 2-digit numbers with totals greater than 10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compare and contrast different solution methods for 2-digit addi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recognize, discuss, and correct common 2-digit addition erro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28600" y="152280"/>
            <a:ext cx="87631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5 c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2-digit addition probl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tell the definition of perime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measure the perimeter of regular and irregular shap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represent 2 and 3-digit money amounts using dollars, dimes and penn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apply addition concepts and strategies to real world situ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22860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rade 2 – Unit 5 con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16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add coins to amounts between $1.00 and $2.00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combine pennies, nickels, and dimes to make different money amoun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add money amounts to purchase two items between $1.00 and $2.00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17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skip count forward and backwar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analyze relationships between numbers in sequenc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discuss patterns in a horizontal hundred gri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solve addition problem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152280" y="15228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rade 2 – Unit 5 con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1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find the partners of 2-digit numbers and partners of 100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19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represent and analyze repeating patter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extend object and number patter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describe the missing units in a patter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2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solve a variety of problems using mathematical concepts and skill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use the mathematical processes in the context of problem solving, connections, reasoning and proof, communication and represent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04920" y="15228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- Unit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describe analog and digital clock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define a.m. and p.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link times to daily activit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tell time to the hou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experience how long a minute 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define an hou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tell time to 5 minut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04920" y="228600"/>
            <a:ext cx="861048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1 c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recognize teen numbers as a ten and some on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understand word names for numbers to 2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identify the break-aparts of 1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identify the break-aparts of numbers 2-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visualize various number groupi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228600" y="15228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6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observe how the hour hand moves with the minute ha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position the hour hand to reflect the number of minutes after the hou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tell time to 1 minu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read time as after the hour and before the hou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use appropriate units to measure ti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determine elapsed ti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52280" y="15228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6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read and understand calenda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use ordinal numb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describe and extend patterns in a function tab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- Unit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construct and interpret picture graph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plan a data collection proje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228600" y="15228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rade 2 – Unit 7 con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analyze information in picture graphs to create and solve problem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use the comparative terms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sam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mor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fewer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to talk about information in picture graph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collect data for a  class projec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solve comparison problems shown in picture graph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use the comparative terms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same, mor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fewer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to talk about information in picture graph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use the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is greater than &gt;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is less than &lt;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mparison symbol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228240" y="152280"/>
            <a:ext cx="84582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rade 2 – Unit 7 con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create, represent and solve comparison story problem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represent information in story problems in a simple picture graph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use comparative terms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more, fewer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sam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make tables for comparison situatio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ask and answer comparison questions using information in a tab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collect data for a class projec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52280" y="152280"/>
            <a:ext cx="883944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7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construct tables and convert them to picture graph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record data collected for a class proje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convert data from a tally list to a summary tab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convert a data table to a picture graph and ask questions based on the d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compare bar graphs with picture graph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convert picture graphs into bar graph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04920" y="151920"/>
            <a:ext cx="853416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7 c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read and analyze information in a bar grap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use a bar graph to ask and answer comparison ques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analyze information in bar graphs to answer ques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elect a way to categorize and display raw d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create bar graphs to display d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228600" y="152280"/>
            <a:ext cx="861048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rade 2 – Unit 7 co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analyze information to create bar graph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compare bar graphs and circle graph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convert bar graphs into circle graph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read information from a circle grap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make and solve problems with a given circle grap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create questions and make comparison statements based on a given grap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convert horizontal graphs to vertical graph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304920" y="228240"/>
            <a:ext cx="86104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rade 2 – Unit 7 co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read and answer questions about information in tables, bar graphs and circle graph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find number partners in tab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write equation chai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make predictions from simple da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discuss conclusions and make predictions from graph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infer trends from da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04560" y="152280"/>
            <a:ext cx="838188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7 c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a variety of problems using mathematical concepts and skil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use the mathematical processes in the contest of problem solving, connections, reasoning and proof, communication and represent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1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identify break-aparts of numbers 2-1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count on to ad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count on to solve mystery addition and subtraction proble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recognize that teen numbers are made up of a 10 and some o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add numbers that make a teen tot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52280" y="151920"/>
            <a:ext cx="876312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1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add two numbers that make a teen tot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record the Make a Ten strategy in written for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make a ten by adding two numbers to make a teen tot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compare finger, written and mental strategies of making a ten to add numb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22860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1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count on to solve addition, mystery addition and subtraction probl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make a ten to solve mystery addition and subtraction story probl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addition and subtraction probl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apply the same solution methods to mystery addition and subtrac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rade 2 – Unit 1 co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1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add or subtract by counting on, using a number li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1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understand what the equals sign = means and recognize the symbol for = “is not equal to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write equation chai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write equations in vertical for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1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write equations involving a total and two partn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4419360" y="3276720"/>
            <a:ext cx="759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1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create and solve story probl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generate equations from Math Mountai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2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compare two numbers using the &lt; or &gt; symbo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order three numb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2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invent strategies for adding three numb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find and discuss teen Math Mountai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28600" y="151920"/>
            <a:ext cx="86868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 - Unit 1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a variety of problems using mathematical  processes and skil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use the mathematical processes of problem solving, connections, reasoning and proof, communication and represent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7T14:32:41Z</dcterms:created>
  <dc:creator>MCPS</dc:creator>
  <dc:description/>
  <dc:language>en-US</dc:language>
  <cp:lastModifiedBy>MCPS</cp:lastModifiedBy>
  <dcterms:modified xsi:type="dcterms:W3CDTF">2011-01-27T17:23:48Z</dcterms:modified>
  <cp:revision>149</cp:revision>
  <dc:subject/>
  <dc:title>Slide 1</dc:title>
</cp:coreProperties>
</file>